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424-99C5-4C71-921C-3BC8BE7D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6ED-5E85-40F0-8C71-7ECE798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B33-9E84-495E-98A6-9EA1D1E5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2FF-6F15-49C6-BEC1-955D2239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AD7-9E01-4D12-BB8B-5645A92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B6C-F0CF-4C2F-9B5C-F12FE54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9CB-7526-4151-91A1-9EC5FFC2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1BA-67A3-4A81-8B49-D5ECF7D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6EF-C422-4039-847C-4D65174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30B-FE0F-4F87-9E58-C604BD9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300-1041-47F2-9EBD-427DBB8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2E6-FCDD-4BCE-857E-6E410AF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AD0-9CC3-481C-B138-89A78C23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6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333360"/>
            <a:ext cx="7991280" cy="70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i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vo 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live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 mi pueblo / ciudad / aldea hay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 my town / city / village there i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s, vi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ía en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 used to live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abía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w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Ojála hubiera también... </a:t>
            </a: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    – If only there was al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yo fuera alcalde, me gustaría tener 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 were mayor I would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mus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castill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plaza de to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estadi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comis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aparcamie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bibliot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centro comer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oficina de tur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re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cated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esta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a igles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15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7308720" y="4437000"/>
            <a:ext cx="1393920" cy="155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73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773360"/>
            <a:ext cx="165564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esta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1773360"/>
            <a:ext cx="136872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Corr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89360"/>
            <a:ext cx="154764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645000"/>
            <a:ext cx="1800360" cy="10087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Un apar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6093000"/>
            <a:ext cx="169236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entro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6021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asti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595008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us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oficina de tur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162864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es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70028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at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364500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omisar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67440"/>
            <a:ext cx="169236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igles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606744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plaza de to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3:15Z</dcterms:created>
  <dc:creator>Owner1</dc:creator>
  <dc:description/>
  <dc:language>en-US</dc:language>
  <cp:lastModifiedBy>Owner1</cp:lastModifiedBy>
  <dcterms:modified xsi:type="dcterms:W3CDTF">2008-09-09T19:21:22Z</dcterms:modified>
  <cp:revision>3</cp:revision>
  <dc:subject/>
  <dc:title>Slide 1</dc:title>
</cp:coreProperties>
</file>